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A79D-8A86-4877-AA27-6898DC36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F240-85EB-4568-9774-0283D834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948-4A8F-4D37-9A54-F7240C0B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ACBF-7DCE-4EE7-9349-B7676078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AB4BF-DB54-4565-A01D-8BB0A376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B5166-8685-4DCE-8B5D-325C168E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2A553-7A9E-4E9D-A3F8-CCFBF1D1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1BB84-7F5E-41DF-B430-161BC48C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5A65A-977B-4C21-9A54-8B274B46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2F319-DCA9-4BB3-97C1-D473D4F6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DF14E-3DE9-4E28-80C4-6F2E1A6B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D2F8-4B71-4015-8A81-689BB595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D92FA-2F9F-4BD1-B41B-E09BE39E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90B91-B990-45AB-8649-6E9B945E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FE6A4-F58C-4ACE-A766-4538B96E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6459F-0410-4829-A34C-3F3C3159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EF501-EC88-4E6F-8AD9-04DBCBBA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662D-87E5-4036-AB79-DBA3ACB1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010-FD01-4E12-AEB8-3EC60450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087C-E23E-4352-BE90-2E067E05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B7E5-9B4E-46F5-8AC2-7AA1AB1A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C205-DF53-49B4-A1D6-F704D922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5628-E9E1-4E59-B882-7F11E1C4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0556-13FD-4F60-B66A-3CB053B4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409D-4423-46C9-B9E1-879BC720A0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0A70-3642-4A0C-A2A8-29B89DE7DA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3e3ff"/>
                </a:solidFill>
                <a:latin typeface="Arial"/>
                <a:ea typeface="David Transparent"/>
              </a:rPr>
              <a:t>IRS Project Presentatio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e By Topaz T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search Ques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n playing Risk</a:t>
            </a:r>
            <a:r>
              <a:rPr b="0" lang="en-GB" sz="3200" spc="-1" strike="noStrike">
                <a:solidFill>
                  <a:srgbClr val="ffffff"/>
                </a:solidFill>
                <a:latin typeface="MS Reference Specialty"/>
                <a:ea typeface="MS Reference Specialty"/>
              </a:rPr>
              <a:t>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ke a person wiser in making decis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ying Risk will help a person make better decisions (related to the g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perimental Procedu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1: Introduce someone new to the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2: Let him/her have a few goes at the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3: Let him/her play against someone experienced (e.g. 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4: Record my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314880" y="3198960"/>
            <a:ext cx="25146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THANK YOU!</a:t>
            </a:r>
            <a:endParaRPr b="0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3:36:30Z</dcterms:created>
  <dc:creator>topaz tan</dc:creator>
  <dc:description/>
  <dc:language>en-US</dc:language>
  <cp:lastModifiedBy>topaz tan</cp:lastModifiedBy>
  <dcterms:modified xsi:type="dcterms:W3CDTF">2010-04-21T14:02:35Z</dcterms:modified>
  <cp:revision>2</cp:revision>
  <dc:subject/>
  <dc:title>IRS Project Presentation</dc:title>
</cp:coreProperties>
</file>